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06D-ABFF-48B5-9AD0-4EF0CD4D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40F-0EDC-4697-BB10-CA7BB269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56A-D670-4A18-8A07-743B2045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141-E6DF-4735-998F-3E23F750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B2C-A54C-482D-AA25-9F34F680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0554-E156-423F-8A15-62BF4EA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5651-0246-4EB1-88E6-E1FCD28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7C77-302F-407B-B580-66D3CFB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D18-5191-415D-BF89-6BD4BAC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7BA0-7DCE-4A13-893C-2310F59B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485D-F6D1-4B83-A9BD-05561FC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1C9-F3CD-4F0A-A79A-160946A3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51A-D431-42BA-B20F-DE59CD0A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A2B-76A9-4C3A-AEA4-CE31CB53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6343-E59A-4C4E-A455-D1393F84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542-B877-4EEB-A12F-E93D835F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5C3-841D-418C-9604-89933590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52D-ADFC-4F38-A153-7A3743F1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A62-8607-469C-A570-18F4905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8D8-66E7-49A8-8385-88820805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F1A-CBC3-46C0-8416-62333B89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9DD-1317-4E5F-A064-58F3700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278-1C2F-42D5-B40B-B9077A0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258-E1D5-4C1C-9867-7CA55FED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BB7-B000-4363-A44F-000012614C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0B9-17DD-49A8-BF01-ACDCDB06C1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we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ncer played his playstation game for 8 hours last weekend.  The playstation uses 160 W of energy and the television uses 200 W of energy.  Calculate the cost to operate this syst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 = 8 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= 160 W + 200 W = 360 W = 0.36 K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 =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0.36 KW x 8 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= 2.88 KW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 = E x 9.11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= 2.88 KWh x 9.11 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= 26. 24 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s Cook uses her 400 W projector for 2 hours each day for 30 days.  Calculate the cost to run the projec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60 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 = 400 W = 0.4 K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0.4 KW x 60 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24 KW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 = E x 9.11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24 KWh x 9.11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218.64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= $2.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blender operates using 15 amps of current and 240 V.  If the blender is used for 3 hours calculate how much that would c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 = I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 = 15 A x 240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600 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.6 K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 = 3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 = 15 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 = 240 V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3.6 KW x 3 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 10.8 KW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 = E x 9.11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= 10.8 KWh x 9.11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= 98.39 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  <a:ea typeface="Arial"/>
              </a:rPr>
              <a:t>¢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527280" cy="2576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Utilization of Electri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you ever heard the word Watt befo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ve you ever used the word Kilowatt before? Whe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a person is speaking                                       in terms of Watts they are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generally talking about th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amount of energy that they are                           us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800" y="3819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 is a measure of your energy con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 is measured in wa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can calculate power using the following formula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= I 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 – power (W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– current (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 – voltage (V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1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uch current is running through a 100 watt light bulb with a voltage of 120 V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 = 100 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 =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P /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00 W /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0.83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uch current is required to operate a DVD player that uses 1200 watts of energy and 120 vol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 = 1200 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 =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P /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200 W / 120 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10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Cost of Electrical Ener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ical energy is required to operate electrical apparatu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st of electrical energy is calculated using the following formu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P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 = amount of electrical energy used in kilowatt-ho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 = power (kilowat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 = time (hou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alculate the cost to operate an electrical device you need to multiple the amount of energy consumed by the price of a kilowatt-hour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st of a kilowatt-hour that we are going to use is 9.11 cents / hou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20:40:58Z</dcterms:created>
  <dc:creator>admin</dc:creator>
  <dc:description/>
  <dc:language>en-US</dc:language>
  <cp:lastModifiedBy>admin</cp:lastModifiedBy>
  <dcterms:modified xsi:type="dcterms:W3CDTF">2008-12-10T15:07:31Z</dcterms:modified>
  <cp:revision>7</cp:revision>
  <dc:subject/>
  <dc:title>Power</dc:title>
</cp:coreProperties>
</file>